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513C-EBB0-4DC2-BC4E-D1B01C023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0C8F-B45B-4B54-8818-1EB6E6413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2D0-E27A-4728-84EB-8FFC319C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71E-528F-4A17-B37A-BDEAF228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B4C-F818-4C98-83B5-422770E8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6148-AD42-475C-B90B-58A05A06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49B5-4F2B-4FEE-AA27-D7F38EF9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44F-14DE-43CE-BFA1-08DB38EA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687D-4BD9-497D-BD87-087CA239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BFE-8F90-4F63-B904-3B9C83E9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ED5-F54D-4CFA-933A-F6343CFF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564-D290-48DA-92EA-7E77C31F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AB3-D180-4BF7-A257-BD1C6E63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017-FE28-47FD-B762-87BE533F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EF21-39C7-49E4-B0E2-EF50D33A3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4 Apart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lassified people in one of two r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s created by French sett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cluded the creation of “homela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till in place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ad the support of most European count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4 Apart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lassified people in one of two r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s created by French sett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Included the creation of “homela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till in place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ad the support of most European count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07_10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5 In the 1920s, this region best exemplified the concept of the nation-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b-Sahara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5 In the 1920s, this region best exemplified the concept of the nation-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b-Sahara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6 Which of the following is the best example of a multinational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former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r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6 Which of the following is the best example of a multinational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The former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r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7 In which of the following decades was nationalism most evident in Europ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9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7 In which of the following decades was nationalism most evident in Europ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9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8 Which of the following ethnic groups has the least representation in Leban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rist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ru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hi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u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1 African Americans are primarily concentrated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8 Which of the following ethnic groups has the least representation in Leban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rist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ru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hi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u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07_15"/>
          <p:cNvPicPr/>
          <p:nvPr/>
        </p:nvPicPr>
        <p:blipFill>
          <a:blip r:embed="rId1"/>
          <a:stretch/>
        </p:blipFill>
        <p:spPr>
          <a:xfrm>
            <a:off x="2362320" y="60948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9 The basic glue holding Yugoslavia together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li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conom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tio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essure from the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9 The basic glue holding Yugoslavia together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li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Econom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tio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essure from the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10 Since 1991 in the Balkans, the most severe ethnic cleansing has been commit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ro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osn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acedon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love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10 Since 1991 in the Balkans, the most severe ethnic cleansing has been commit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ro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osn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acedon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love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1 African Americans are primarily concentrated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07_01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2 Hispanic Americans are primarily concentrated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2 Hispanic Americans are primarily concentrated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07_02"/>
          <p:cNvPicPr/>
          <p:nvPr/>
        </p:nvPicPr>
        <p:blipFill>
          <a:blip r:embed="rId1"/>
          <a:stretch/>
        </p:blipFill>
        <p:spPr>
          <a:xfrm>
            <a:off x="990720" y="533520"/>
            <a:ext cx="7391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3 The most likely destination for African slaves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3 The most likely destination for African slaves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4-24T22:54:34Z</dcterms:modified>
  <cp:revision>85</cp:revision>
  <dc:subject/>
  <dc:title>CRS Chapter 4</dc:title>
</cp:coreProperties>
</file>